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059-E560-40D8-9565-F03618D9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CAC-F2F8-4167-914C-C6F1C2B8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BB1-84DB-41BD-A762-E0A95114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46C-2E19-49EB-87BA-06D4D57D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F3AB-E0DE-4EFF-A52C-CF7D9E24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585D-4858-4AFB-A639-ED8F392A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8DD9-F71F-48D8-BBD2-E793AB9E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4DC8-928A-4351-92B9-44205ED3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3D03-C865-49FD-A182-6ADAED2D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1AA7-F59E-4F26-B4D0-DE43EB3A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A7DA-AE9C-443D-A043-FCF9AC25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E1D-2CFE-40FD-ADF2-AD012986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10C7-9E92-4934-A1C7-00863ED4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ABDE-FE8D-44B6-A848-CACCD10F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D9C9-0E4B-46B7-8CEC-F8879EBB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EE97-D7BF-4E5F-AE2B-4A86F32E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7518-640E-4B42-8C32-F1DEB062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248E-2A5D-4DE9-AE98-5F27F494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8EA95-6524-476E-BAB4-3F57E867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5BD9-8AF1-4898-AB17-31EBDF90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C5304-4D73-4C19-A67D-C64752DD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23607-1E42-4229-93D0-F6E244E0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E2BF-B98F-4F5D-9CA4-4B3C95B7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BDD9D-C576-4599-ADEB-1A859148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CECF8-6F50-4DCF-BF9D-FB2F99C1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26978-DD1B-47DA-A567-A4211A14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FF081-A6C1-4C90-BD48-76002E26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C0DBF-D614-40A5-ADDD-3510F201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41DF1-DEDF-41A4-87A2-FB9BB8BA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2828E-A05D-4BF0-98F2-5EA5C1C3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6180-4F6A-49A5-A90A-108BEF17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D7AFD-0030-4199-9A4A-0EF5C192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1100B-C997-41CB-9E06-AFEC0426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EB82-D415-448A-8BA8-841E3527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2BA1A-3E39-4246-B9C6-EB2EF5AA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94D57-70AA-4D0F-8D4E-7132A3DD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F793B-31CD-4C99-897B-E88A0F52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80E85-EF2E-4237-9693-E4C7FCD4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285B5-B87C-4DFE-B2CF-8F967650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14B20-C0B4-47F2-8067-636D8407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CBB16-85CD-4FA0-88FE-48356F2E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63755-6950-40EE-B97B-67032ACA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6B35E-E817-4C3C-A84E-504FD64D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2F5-ED3D-4406-BF87-017A4BB6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DB6-4F50-41BC-AD6C-A7C0E2FC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408-6FDA-4547-A84F-54959887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E68-50CF-4F87-A339-0A1A0B65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5A4-F1E7-4B53-A2BE-DAF5EE36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FD39-2061-435E-90B9-1091A2C562F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0CC3-3BB9-44CA-BE1D-BFCCC03952B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A55A-8D96-43FF-97E5-B6C54060E75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7997-271C-40FC-A5DF-4A0922EBEE6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214200" y="4429080"/>
            <a:ext cx="63579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оект по литера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ля учащихся 9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428760" y="1428840"/>
            <a:ext cx="82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b5edfd"/>
                </a:solidFill>
                <a:uFillTx/>
                <a:latin typeface="Constantia"/>
              </a:rPr>
              <a:t>Есенин</a:t>
            </a:r>
            <a:r>
              <a:rPr b="1" lang="ru-RU" sz="6600" spc="-1" strike="noStrike" u="sng">
                <a:solidFill>
                  <a:srgbClr val="8adfff"/>
                </a:solidFill>
                <a:uFillTx/>
                <a:latin typeface="Constantia"/>
              </a:rPr>
              <a:t> - лель русской поэз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5"/>
          <p:cNvSpPr/>
          <p:nvPr/>
        </p:nvSpPr>
        <p:spPr>
          <a:xfrm>
            <a:off x="500040" y="150012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b5edfd"/>
                </a:solidFill>
                <a:uFillTx/>
                <a:latin typeface="Constantia"/>
              </a:rPr>
              <a:t>Автор проект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оронова Полина Константиновна, 341г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3000240" y="285840"/>
            <a:ext cx="3786480" cy="57164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2428920" y="6000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гей Александрович Есен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95-19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357120" y="242892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Является ли творчество русских поэтов на самом деле актуальным и притягательным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-61200" y="785880"/>
            <a:ext cx="94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5edfd"/>
                </a:solidFill>
                <a:uFillTx/>
                <a:latin typeface="Constantia"/>
              </a:rPr>
              <a:t>Основной вопрос нашего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2"/>
          <p:cNvSpPr/>
          <p:nvPr/>
        </p:nvSpPr>
        <p:spPr>
          <a:xfrm>
            <a:off x="214200" y="100008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5edfd"/>
                </a:solidFill>
                <a:uFillTx/>
                <a:latin typeface="Constantia"/>
              </a:rPr>
              <a:t>Вопросы, ответы на которые мы будем иск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214200" y="2786040"/>
            <a:ext cx="828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ие факторы оказали влияние на формирование русского характера поэта С.Есенин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овы черты в характере лирического героя С.Есенин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ово отношение поэта к Росс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4"/>
          <p:cNvSpPr/>
          <p:nvPr/>
        </p:nvSpPr>
        <p:spPr>
          <a:xfrm>
            <a:off x="142920" y="928800"/>
            <a:ext cx="900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5edfd"/>
                </a:solidFill>
                <a:uFillTx/>
                <a:latin typeface="Constantia"/>
              </a:rPr>
              <a:t>Вопросы учебной темы (частные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ие темы чаше всего звучат в стихотворениях поэт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ая тема является основной для поэт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1571760" y="642960"/>
            <a:ext cx="61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5edfd"/>
                </a:solidFill>
                <a:uFillTx/>
                <a:latin typeface="Constantia"/>
              </a:rPr>
              <a:t>Система уро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5"/>
          <p:cNvSpPr/>
          <p:nvPr/>
        </p:nvSpPr>
        <p:spPr>
          <a:xfrm>
            <a:off x="500040" y="150012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1 урок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– Знакомство с творчеством писате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2 урок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– Основные темы лирики Есен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3 урок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– Творческий подход к изучаемой теме (исследовательские работы учащихся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3"/>
          <p:cNvSpPr/>
          <p:nvPr/>
        </p:nvSpPr>
        <p:spPr>
          <a:xfrm>
            <a:off x="1571760" y="642960"/>
            <a:ext cx="61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5edfd"/>
                </a:solidFill>
                <a:uFillTx/>
                <a:latin typeface="Constantia"/>
              </a:rPr>
              <a:t>Темы проектов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500040" y="1500120"/>
            <a:ext cx="8143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ема любви в стихах С.А. Есен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ема Родины в стихах С.А. Есен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ема природы в стихах С.А. Есен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Можно выбрать свои темы, касающиеся творчества или биографии поэ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1571760" y="642960"/>
            <a:ext cx="61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5edfd"/>
                </a:solidFill>
                <a:uFillTx/>
                <a:latin typeface="Constantia"/>
              </a:rPr>
              <a:t>Представление своего проект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285840" y="2286000"/>
            <a:ext cx="864396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здание презентации, по выбранной учеником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иск информ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бота с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щита своего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роки создания своего проекта 10 – 12 ча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3"/>
          <p:cNvSpPr/>
          <p:nvPr/>
        </p:nvSpPr>
        <p:spPr>
          <a:xfrm>
            <a:off x="785880" y="642960"/>
            <a:ext cx="61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5edfd"/>
                </a:solidFill>
                <a:uFillTx/>
                <a:latin typeface="Constantia"/>
              </a:rPr>
              <a:t>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5"/>
          <p:cNvSpPr/>
          <p:nvPr/>
        </p:nvSpPr>
        <p:spPr>
          <a:xfrm>
            <a:off x="0" y="13572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тература: 9 кл.: Учеб.хрестоматия для общеобразоват. учреждений/Авт.-сост. Т.Ф.Курдюмова и др. – 4-е изд. – М.: Просвещение, 1999. – 447 с.: и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олотарева И.В., Беломестных О.Б., Корнеева М.С. Поурочные разработки по литературе. 9 клас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-е издание исправленное и дополнен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.: «ВАКО», 2004, 400 с. – (В помощь школьному учител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итаем.Думаем.Спорим: Кн. для самостоят. работы учащихся по лит.: 9 кл./ Авт.-сост. Г.И.Беленький и др.; Под ред. Г.И.Беленького. – М.: Просвещение; Учебная литература, 1996. – 336 с.// С.А. Есен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20:17:05Z</dcterms:created>
  <dc:creator>Admin</dc:creator>
  <dc:description/>
  <dc:language>en-US</dc:language>
  <cp:lastModifiedBy>студент</cp:lastModifiedBy>
  <dcterms:modified xsi:type="dcterms:W3CDTF">2001-12-31T22:26:47Z</dcterms:modified>
  <cp:revision>15</cp:revision>
  <dc:subject/>
  <dc:title>Слайд 1</dc:title>
</cp:coreProperties>
</file>